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D8B1-E127-45BE-B07D-C5B1EAD4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008-1D26-430B-A978-460BBEA90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 analysis of Auschwitz front gates – what is this?  Why trains?  What does this suggest (industrial, systematic, open mouth, etc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E83-5C14-43B0-BEC8-4B90945F5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nied entrance to Vienna School of Art before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elieved Treaty of Versailles would lead to demise of Germany; wanted to bring Germany back to its rightful place on world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ated to Nazi policies, thought this was how Germany could restor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 orator – critical discussion; how does his body language/tone of voice motivate people?  How do people respond?  What do you think he’s saying?  Why the military uni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aborate on “Mein Kamph” – translation, belief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5694-E510-47B9-8D36-BB5D08085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olden Years = 1920s, Hitler as political outsider because of failed coup d’e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tical deadlock after resignation of government; unpack this term, also Nazis and Communists win most of the seats in 1932 election (coal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tler creates Nazi Dictator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rn down Reichstag (house of government) and blames Commun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sses law to remove personal freedoms of citizens and structure of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ffice of President and Chancellor merged – declares self “Fuehrer”, or “Lead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tical opponents put in concentration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ews, Socialists, Communists removed from civil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s state-sponsored propaganda to encourage this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0400-96A6-4D44-AB9C-CD5F09B026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ew defined as having one Jewish grand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adual support by Germans for Hitler’s practices throughout this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ctures – Nuremberg Laws outlined along genealogy; star also spelled “Jud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9F8-99C0-4E02-9823-9EA7738A3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ril 1938 – Nazis decare Jews must register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 November – state-sponsored; nobody to help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fter – Jews could only support Jewish businesses, Germans stigmatized for supporting Jews and worried about who next victi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39 – Holocaust expanded along with advances in the War; this was one way that the Nazis could keep things so secret from the rest of the world (they were distracted by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7F0-6592-4B36-85D5-615BC2F321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40-42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ilt along railroads; dehumanizing institutionally, socially, economicall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y is it important to dehumanize the victims?  What does this accomp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mptied in 1942 to concentration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al Solution – detailed at Wannsee Conference; unprecedented in scope of operation, not in obj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centration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ed for labour, humiliation; death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ed for systematic killing (only built after Wannse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scribe other victims in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litical opponents, POWs, homosexuals, other religious minoriti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pack visual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ammed quarters in Auschwitz; map of death and concentration camps (location in interior, concentrated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AE3-BFC7-4D75-800E-54647D1092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UK not under Nazi control, therefore could help Jews from interior of Europe; brought 9-10,000 children from Nazi-Occupied Europe, 7500 of them Je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arsaw Ghetto Uprising – Inmates attacked Nazis when they came to liquidate Warsaw Ghetto; resistors drove Nazis out but they rearmed, reappared, destr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Unpack photos – liquidation; torching by Germ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of life to individual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of life to individual and their famil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to individual and their fami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German Jews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d felt underneath yellow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Jewish Councils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stablished by Nazis to police ghettos and provide information on the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ome believed that by being on Council and serving Nazis they’d be saved (ended up dying with the rest), others provided false information to Nazis to save m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DE4-C730-4496-A4BC-A14C4040F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ti-Semitis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ing Diary entries describing Hitler, Blair “none is too many” as description of how many Jews to allow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fficial respon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ada preoccupied with Depression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vian Con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sevelt lead to satisfy Jewish lobbyists; no Allies in attendance pledged to help European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. Loui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 for Havana, refused there and at Miami and Halifax; went back to Europe where most died in Holoca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bby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adian Jewish Congress provided accurate reports of Nazi death camps and vendetta against Jews to Parliament; Parliament kept qu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,000 Jews enter as tailors and furriers to alleviate shortage in labour; 1948 begin accepting DPs; 1995 Chretien states Canada could have saved more lives in the Holoca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ctur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S St. Louis in 1939; “The Wheel of Conscious” which sits in Halifax as of Jan. 2011 to remind Canadians about our refusal of entry to refugees aboard St. Lo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FEC-D423-4C62-8812-785C222ED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ber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llied forces gradually took back Europe, they found Concentration and Death Camps and liberated them; War Museum quote “Why we fought WWI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remberg Trials – 22 war criminals tried, 12 sentenced to death, 11 executed October 1946 (one hung self the day before scheduled execu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y would they do this?), 3 acquitted, 3 given life in prison, 4 given 10-15 year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tler and closest aides killed selves before end of wa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order to avoid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roduced categories of crimes, including crimes against humanity, war crimes; displayed need for definition of genocide (happened in 1948 UN Convention on Genoc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rviv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pack Europe, Judaism, willingness to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51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est Germany establishes diplomatic ties with Israel and begins making reparations to the Jewish people through this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pack imag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fendants at Nuremberg, Elie Wiesel as prominent surviv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9F2D-CFAD-47B7-84FC-9F9F7C4A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3311-3B7C-4080-8D91-191A656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539A-B784-48BF-A546-41F1CD12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289B-3D35-4D67-900B-52283609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506-5659-4DFA-88AB-FACBF4E4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2A86-6044-4AF1-ACB8-1424573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835-5336-4E98-BE3D-D83D0BB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6E09-BB81-475B-8C82-11B97EE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2EC-7B94-419E-855B-F4090E34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E96-7BD2-4FCB-BF28-9656897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2339-B709-467A-9E42-11672E59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EF23-9588-454A-ADB9-19FCEED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09C-972C-49F7-B5E4-748C25CA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6094-97DF-40F5-8262-CE2A653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AE1-21CA-40E3-BB70-6B72D069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AD0-FD18-441C-87E0-480BF916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D0B4-235E-4B16-8936-0565EC37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D744-0195-4F81-8F15-F4B0741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B8DE-33AC-4BBD-BF7E-90E8F1C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8E85-BCA6-4DBF-B30A-C054F5F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EAB0-3687-45A4-8B91-CC8CF1FB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74C2-4C76-4AA0-AA8B-C8BCB5B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6781-0244-402C-B1EF-F1E542B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A6DA-9C7B-4C59-BBDB-BC1D1BA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3D8-9E11-4AF4-9673-532BAF385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E70-7592-4B01-BCCB-6C5E07DE7D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cafe.com/watch/4174444/adolf_hitler_speech_1932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HOLOCUA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. Mau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stern Technical-Commercial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 3C-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ril 20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auschwitz-birkenau-main_tra"/>
          <p:cNvPicPr/>
          <p:nvPr/>
        </p:nvPicPr>
        <p:blipFill>
          <a:blip r:embed="rId1"/>
          <a:stretch/>
        </p:blipFill>
        <p:spPr>
          <a:xfrm>
            <a:off x="2987640" y="1989000"/>
            <a:ext cx="33894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OLF HIT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I – German sol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-WWI – German spy at National Socialist gathe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shes “Party Program” – socialist, anti-Semitic and national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rity – rises with speeches to Nazi par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metacafe.com/watch/4174444/adolf_hitler_speech_1932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rest – 1923 for failed coup d'état in Bava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s “Mein Kamph” in j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Adolf Hitler"/>
          <p:cNvPicPr/>
          <p:nvPr/>
        </p:nvPicPr>
        <p:blipFill>
          <a:blip r:embed="rId2"/>
          <a:stretch/>
        </p:blipFill>
        <p:spPr>
          <a:xfrm>
            <a:off x="7308720" y="4508640"/>
            <a:ext cx="1624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TLER’S RISE TO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24-1929 – Germany’s Golden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0 – German government res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2 – Hitler runs for President; loose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n. 1933 – Hitler appointed Chancellor of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June, 1933 – Hitler creates Nazi dictato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adolf_hitler_04"/>
          <p:cNvPicPr/>
          <p:nvPr/>
        </p:nvPicPr>
        <p:blipFill>
          <a:blip r:embed="rId1"/>
          <a:stretch/>
        </p:blipFill>
        <p:spPr>
          <a:xfrm>
            <a:off x="2484360" y="4172040"/>
            <a:ext cx="37432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D-193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al - enforced emigration of all German J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3 – Jews banned from schools, univers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5 – Nuremberg Laws remove citizenship rights of German J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6 – Jewish businesses taken over by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DHM_90-6011"/>
          <p:cNvPicPr/>
          <p:nvPr/>
        </p:nvPicPr>
        <p:blipFill>
          <a:blip r:embed="rId1"/>
          <a:stretch/>
        </p:blipFill>
        <p:spPr>
          <a:xfrm>
            <a:off x="611280" y="3867120"/>
            <a:ext cx="4321080" cy="275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ew"/>
          <p:cNvPicPr/>
          <p:nvPr/>
        </p:nvPicPr>
        <p:blipFill>
          <a:blip r:embed="rId2"/>
          <a:stretch/>
        </p:blipFill>
        <p:spPr>
          <a:xfrm>
            <a:off x="5651640" y="3789360"/>
            <a:ext cx="2952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TE-193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61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8 – Kristallnacht “Night of Broken Glas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 November – Nazi storm troopers attack Jewish homes and businesses, killing people and destroying synagogues to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9 – Nazis invade Poland; start of WW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zi policies now extend over Pol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al – force as many Jews as possible into exile in Polish concentration camps and ghet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kristl1"/>
          <p:cNvPicPr/>
          <p:nvPr/>
        </p:nvPicPr>
        <p:blipFill>
          <a:blip r:embed="rId1"/>
          <a:stretch/>
        </p:blipFill>
        <p:spPr>
          <a:xfrm>
            <a:off x="5651640" y="4508640"/>
            <a:ext cx="3348000" cy="208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rokewin"/>
          <p:cNvPicPr/>
          <p:nvPr/>
        </p:nvPicPr>
        <p:blipFill>
          <a:blip r:embed="rId2"/>
          <a:stretch/>
        </p:blipFill>
        <p:spPr>
          <a:xfrm>
            <a:off x="5580000" y="1413000"/>
            <a:ext cx="3240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78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0-1942 – Jews relocated to Ghet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41 – The Final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al – extermination, not evac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ntration and Death Camps saw 18 million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least 5 million died in camps; 11 million total overall, 6 million of whom were Jew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campsmap"/>
          <p:cNvPicPr/>
          <p:nvPr/>
        </p:nvPicPr>
        <p:blipFill>
          <a:blip r:embed="rId1"/>
          <a:stretch/>
        </p:blipFill>
        <p:spPr>
          <a:xfrm>
            <a:off x="4427640" y="3889440"/>
            <a:ext cx="4465440" cy="280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uschwitz"/>
          <p:cNvPicPr/>
          <p:nvPr/>
        </p:nvPicPr>
        <p:blipFill>
          <a:blip r:embed="rId2"/>
          <a:stretch/>
        </p:blipFill>
        <p:spPr>
          <a:xfrm>
            <a:off x="395280" y="393372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EWISH RESIS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511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istance = the act of opposing something you disagree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man Jews – small acts of resist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ish Councils – some leaders provided false information to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s in Britain – Kinder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rsaw Ghetto Uprising – April to May 194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eous Gentiles – non-Jews who hid Jews from the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warsaw-ghetto-uprising"/>
          <p:cNvPicPr/>
          <p:nvPr/>
        </p:nvPicPr>
        <p:blipFill>
          <a:blip r:embed="rId1"/>
          <a:stretch/>
        </p:blipFill>
        <p:spPr>
          <a:xfrm>
            <a:off x="5508720" y="1484280"/>
            <a:ext cx="3456000" cy="244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user998_1169280961"/>
          <p:cNvPicPr/>
          <p:nvPr/>
        </p:nvPicPr>
        <p:blipFill>
          <a:blip r:embed="rId2"/>
          <a:stretch/>
        </p:blipFill>
        <p:spPr>
          <a:xfrm>
            <a:off x="5580000" y="4149720"/>
            <a:ext cx="33847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NADA’S INVOL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633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-Semitism in Canadian government and soci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M King – Hitler as “A real companion and frien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.C. Blair – “None is too many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8 – Canada attends Evian Confe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9 – SS St. Lou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40s – failure to listen to Jewish lobby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-WWII – Canada allows for 11,000 Jews to enter due to shortage in labo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8 – begin accepting displaced pers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stlouis"/>
          <p:cNvPicPr/>
          <p:nvPr/>
        </p:nvPicPr>
        <p:blipFill>
          <a:blip r:embed="rId1"/>
          <a:stretch/>
        </p:blipFill>
        <p:spPr>
          <a:xfrm>
            <a:off x="6443640" y="1268280"/>
            <a:ext cx="2556000" cy="185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genocide"/>
          <p:cNvPicPr/>
          <p:nvPr/>
        </p:nvPicPr>
        <p:blipFill>
          <a:blip r:embed="rId2"/>
          <a:stretch/>
        </p:blipFill>
        <p:spPr>
          <a:xfrm>
            <a:off x="6227640" y="3716280"/>
            <a:ext cx="27370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TERM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beration – 194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remberg Trials – began in 194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rst time human rights addressed on an internatio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vivors – lead varying, difficult l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 regarding relationship with Europe, Judaism, willingness to ta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efendants_in_the_dock_at_nuremberg_trials"/>
          <p:cNvPicPr/>
          <p:nvPr/>
        </p:nvPicPr>
        <p:blipFill>
          <a:blip r:embed="rId1"/>
          <a:stretch/>
        </p:blipFill>
        <p:spPr>
          <a:xfrm>
            <a:off x="900000" y="3701880"/>
            <a:ext cx="3743280" cy="294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ba_wiesel_accosted"/>
          <p:cNvPicPr/>
          <p:nvPr/>
        </p:nvPicPr>
        <p:blipFill>
          <a:blip r:embed="rId2"/>
          <a:stretch/>
        </p:blipFill>
        <p:spPr>
          <a:xfrm>
            <a:off x="6156360" y="3357720"/>
            <a:ext cx="2046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4:48:00Z</dcterms:created>
  <dc:creator>Leah Mauer</dc:creator>
  <dc:description/>
  <dc:language>en-US</dc:language>
  <cp:lastModifiedBy>Leah</cp:lastModifiedBy>
  <dcterms:modified xsi:type="dcterms:W3CDTF">2012-04-05T02:03:37Z</dcterms:modified>
  <cp:revision>22</cp:revision>
  <dc:subject/>
  <dc:title>THE HOLOCUAST</dc:title>
</cp:coreProperties>
</file>